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png" ContentType="image/png"/>
  <Override PartName="/ppt/media/image26.png" ContentType="image/png"/>
  <Override PartName="/ppt/media/image23.png" ContentType="image/png"/>
  <Override PartName="/ppt/media/image13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9.png" ContentType="image/png"/>
  <Override PartName="/ppt/media/image34.jpeg" ContentType="image/jpeg"/>
  <Override PartName="/ppt/media/image37.png" ContentType="image/pn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0.jpeg" ContentType="image/jpeg"/>
  <Override PartName="/ppt/media/image31.png" ContentType="image/png"/>
  <Override PartName="/ppt/media/image47.jpeg" ContentType="image/jpeg"/>
  <Override PartName="/ppt/media/image41.gif" ContentType="image/gif"/>
  <Override PartName="/ppt/media/image12.jpeg" ContentType="image/jpeg"/>
  <Override PartName="/ppt/media/image20.png" ContentType="image/png"/>
  <Override PartName="/ppt/media/image36.jpeg" ContentType="image/jpeg"/>
  <Override PartName="/ppt/media/image8.png" ContentType="image/png"/>
  <Override PartName="/ppt/media/image14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4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DA3-6B30-438A-B986-6C9672D0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81F-AF62-4307-9955-CBF18050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BF2-E5FD-4DD7-BDF1-51829404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F91-E6D9-4F65-B8B0-58DFE924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B77C-DB29-45B2-B978-A7587768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4A26-07D4-487D-AF90-52D91485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FDDB-5E03-4D86-B07B-9E88A896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02AD-A00B-42D7-AE9E-F4C9FE7C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4789-D92C-40BC-B15F-5E1F5570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F450-A6BD-4270-9FAA-303AEABA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A4CF-AF1F-4BA7-B2BC-666A4D66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DCE-53BE-4A50-9982-FE11BD94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C5D3-70A1-445F-A6A1-B8365F77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7B55-F026-4B89-B317-69A954B3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9FF0-9C14-452D-A5D9-92C8D669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5A35-0073-41F3-B49E-D4C028EC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E0AA-4510-4044-8577-84CEBDFB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26A6D-8898-4D42-89AE-4282C4B4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AB1B9-43E5-4753-A116-3D7F8594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3666F-E289-449E-B839-413AD129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20EA-2A2B-4A4B-8232-035EF50A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C2EA-784A-4D89-ACC8-4405B0EF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618F-48EA-46AC-A737-A3F687F2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9C5CA-2CE2-494F-A785-71E58B1D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25FB-C9F1-4AA2-929A-47DDF3BF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88E39-AD25-40B9-85BC-9D8E980A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4DA00-EE7F-461E-9866-0B47E596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D780B-F56B-40DF-B985-8A47A302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0501D-BD10-4EDC-A5DA-C3F8DF9E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0F761-2D8D-440B-91CB-F3A49CED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90D95-F9B5-41D3-A83C-6E2FFFA3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8113-9582-48BE-A74A-D20CDA7C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2C835-0145-4494-B7C1-E724A58D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1F5-A3E7-4B8E-8611-EB7692B5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1F2FB-69DB-4FFE-83D4-BCE734D2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8C379-00E5-4DBB-97BE-F598EE76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7DDBC-C9C7-43B3-A9F5-CC421DA5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95CAA-929B-455A-8A1C-24DA4B6F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DA00B-0865-4E1B-BB6C-D858FE72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37474-EAA1-4BCD-AF28-08D9C7BA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742AE-C3C8-4C75-B422-A675BC52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D14F5-C269-46B4-966E-3C43E396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95604-108F-4B92-8475-D61DDFE3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C45-140A-436B-A698-C12E2D3E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1B2-754C-4B04-8C92-611EFC47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6A0-EB6C-4ABD-8DFB-3D6EA663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56B-0549-4DA8-99C4-BF49A6E9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3CA-37F5-4985-8CE2-AC09D3B9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A07A-0706-4666-A2FD-515863E3617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D20A-A751-4064-91ED-20166CEBEEC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AEBF-1946-43AB-AF94-2C9AC6C3CCE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CA8C-F169-4932-9FF9-63201FB2ED7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e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rowth and develop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w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1904760"/>
            <a:ext cx="403848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6" descr="http://whatdoclientsreallywant.com/wp-content/uploads/2012/09/big_apple_small_apple.jpg"/>
          <p:cNvPicPr/>
          <p:nvPr/>
        </p:nvPicPr>
        <p:blipFill>
          <a:blip r:embed="rId1"/>
          <a:stretch/>
        </p:blipFill>
        <p:spPr>
          <a:xfrm>
            <a:off x="152280" y="2590920"/>
            <a:ext cx="3740400" cy="2809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http://www.deviantart.com/download/169407062/Life_Stages_by_dawningsun.png"/>
          <p:cNvPicPr/>
          <p:nvPr/>
        </p:nvPicPr>
        <p:blipFill>
          <a:blip r:embed="rId2"/>
          <a:stretch/>
        </p:blipFill>
        <p:spPr>
          <a:xfrm>
            <a:off x="4648320" y="2514600"/>
            <a:ext cx="41907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p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855800"/>
            <a:ext cx="343080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exual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790960" y="1860120"/>
            <a:ext cx="28954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Asex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8" descr="http://www.world-builders.org/lessons/less/les4/genes/asex.gif"/>
          <p:cNvPicPr/>
          <p:nvPr/>
        </p:nvPicPr>
        <p:blipFill>
          <a:blip r:embed="rId1"/>
          <a:stretch/>
        </p:blipFill>
        <p:spPr>
          <a:xfrm>
            <a:off x="5257800" y="2438280"/>
            <a:ext cx="3422520" cy="3299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http://www.ewart.org.uk/biology/pics/sexual.gif"/>
          <p:cNvPicPr/>
          <p:nvPr/>
        </p:nvPicPr>
        <p:blipFill>
          <a:blip r:embed="rId2"/>
          <a:stretch/>
        </p:blipFill>
        <p:spPr>
          <a:xfrm>
            <a:off x="0" y="2514600"/>
            <a:ext cx="4581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nge through ti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http://bio1903.nicerweb.com/Locked/media/ch22/22_10ArtifSelection.jpg"/>
          <p:cNvPicPr/>
          <p:nvPr/>
        </p:nvPicPr>
        <p:blipFill>
          <a:blip r:embed="rId1"/>
          <a:stretch/>
        </p:blipFill>
        <p:spPr>
          <a:xfrm>
            <a:off x="533520" y="1371600"/>
            <a:ext cx="8001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ethods of Maintaining Homeostas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ctotherms 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ptiles, fish and amphibia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moreg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10" descr="http://www.sheppardsoftware.com/content/animals/kidscorner/images/classification/coldbloodedfrog.gif"/>
          <p:cNvPicPr/>
          <p:nvPr/>
        </p:nvPicPr>
        <p:blipFill>
          <a:blip r:embed="rId1"/>
          <a:stretch/>
        </p:blipFill>
        <p:spPr>
          <a:xfrm>
            <a:off x="930240" y="2666880"/>
            <a:ext cx="793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ethods of Maintaining Homeostas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dotherms 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mmals and bir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moreg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2" descr="bears are warm blooded animals"/>
          <p:cNvPicPr/>
          <p:nvPr/>
        </p:nvPicPr>
        <p:blipFill>
          <a:blip r:embed="rId1"/>
          <a:stretch/>
        </p:blipFill>
        <p:spPr>
          <a:xfrm>
            <a:off x="762120" y="2590920"/>
            <a:ext cx="7783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ethods of Maintaining Homeostas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ter regulation (osmoregula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5" descr="http://renux.dmed.ed.ac.uk/EdREN/EdRenINFObits/hydronephrosisb.gif"/>
          <p:cNvPicPr/>
          <p:nvPr/>
        </p:nvPicPr>
        <p:blipFill>
          <a:blip r:embed="rId1"/>
          <a:stretch/>
        </p:blipFill>
        <p:spPr>
          <a:xfrm>
            <a:off x="2286000" y="1905120"/>
            <a:ext cx="472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ethods of Maintaining Homeostas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xygen reg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5" descr="http://www.emc.maricopa.edu/faculty/farabee/biobk/gasexch1.gif"/>
          <p:cNvPicPr/>
          <p:nvPr/>
        </p:nvPicPr>
        <p:blipFill>
          <a:blip r:embed="rId1"/>
          <a:stretch/>
        </p:blipFill>
        <p:spPr>
          <a:xfrm>
            <a:off x="304920" y="2209680"/>
            <a:ext cx="4267080" cy="3686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http://rbssanimalsystems3.wikispaces.com/file/view/gills.gif/291073377/gills.gif"/>
          <p:cNvPicPr/>
          <p:nvPr/>
        </p:nvPicPr>
        <p:blipFill>
          <a:blip r:embed="rId2"/>
          <a:stretch/>
        </p:blipFill>
        <p:spPr>
          <a:xfrm>
            <a:off x="4876920" y="1447920"/>
            <a:ext cx="38955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Prokaryotes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4041720" cy="65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43792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nicellul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ack true nucle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ack membrane-bound organel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single loop of DN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ribosom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: bacter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876560" y="243792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ni or multicellul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a true nucle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a wide variety of membrane-bound organel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DNA in chromosom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: fungi, protists, plants, anima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Content Placeholder 8" descr="http://www.phschool.com/science/biology_place/biocoach/images/cells/allcell.jpg"/>
          <p:cNvPicPr/>
          <p:nvPr/>
        </p:nvPicPr>
        <p:blipFill>
          <a:blip r:embed="rId1"/>
          <a:stretch/>
        </p:blipFill>
        <p:spPr>
          <a:xfrm>
            <a:off x="0" y="685800"/>
            <a:ext cx="877104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57150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Cell Organelles 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 tiny structures that carry out functions necessary for the cell to stay aliv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5" descr="http://www.enchantedlearning.com/subjects/plants/cell/anatomy.GIF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ample Question 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hich of the following is an example of homeostasis found in your bod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you eat food because it tastes go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. you shiver because you are co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. you stay well because you take antibiotics when you</a:t>
            </a:r>
            <a:r>
              <a:rPr b="0" lang="ja-JP" sz="28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 si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. you get sick when invaded by a pathog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. you eat more and gain weigh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2" descr="http://www.enchantedlearning.com/subjects/animals/cell/anatomy.GIF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gan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5228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5" descr="http://peer.tamu.edu/curriculum_modules/cell_biology/module_1/levels%20of%20organization.jpg"/>
          <p:cNvPicPr/>
          <p:nvPr/>
        </p:nvPicPr>
        <p:blipFill>
          <a:blip r:embed="rId1"/>
          <a:stretch/>
        </p:blipFill>
        <p:spPr>
          <a:xfrm>
            <a:off x="1905120" y="15238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Picture 7" descr="http://www.mlms.loganschools.org/~ksorensen/Cells/Cell%20Pictures/Levels%20of%20Organization%20jpg.JPG"/>
          <p:cNvPicPr/>
          <p:nvPr/>
        </p:nvPicPr>
        <p:blipFill>
          <a:blip r:embed="rId1"/>
          <a:stretch/>
        </p:blipFill>
        <p:spPr>
          <a:xfrm>
            <a:off x="1295280" y="0"/>
            <a:ext cx="632484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tructure and function are related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5" descr="http://images.emedicinehealth.com/images/eMedicineHealth/illustrations/blood_cells.jpg"/>
          <p:cNvPicPr/>
          <p:nvPr/>
        </p:nvPicPr>
        <p:blipFill>
          <a:blip r:embed="rId1"/>
          <a:stretch/>
        </p:blipFill>
        <p:spPr>
          <a:xfrm>
            <a:off x="228600" y="1447920"/>
            <a:ext cx="3124080" cy="3411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http://im.glogster.com/media/4/20/14/90/20149068.jpg"/>
          <p:cNvPicPr/>
          <p:nvPr/>
        </p:nvPicPr>
        <p:blipFill>
          <a:blip r:embed="rId2"/>
          <a:stretch/>
        </p:blipFill>
        <p:spPr>
          <a:xfrm>
            <a:off x="510552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http://upload.wikimedia.org/wikipedia/commons/thumb/b/bc/Neuron_Hand-tuned.svg/400px-Neuron_Hand-tuned.svg.png"/>
          <p:cNvPicPr/>
          <p:nvPr/>
        </p:nvPicPr>
        <p:blipFill>
          <a:blip r:embed="rId3"/>
          <a:stretch/>
        </p:blipFill>
        <p:spPr>
          <a:xfrm>
            <a:off x="2743200" y="4114800"/>
            <a:ext cx="46483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tructure and function are related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9" descr="http://preview.turbosquid.com/Preview/Content_2010_12_08__08_59_03/skincell04.jpg04eef3bf-4cbc-46ec-be2c-9cc856456abeLarger.jpg"/>
          <p:cNvPicPr/>
          <p:nvPr/>
        </p:nvPicPr>
        <p:blipFill>
          <a:blip r:embed="rId1"/>
          <a:stretch/>
        </p:blipFill>
        <p:spPr>
          <a:xfrm>
            <a:off x="5486400" y="17524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http://farm3.static.flickr.com/2640/4062055689_0f0a9747a9.jpg"/>
          <p:cNvPicPr/>
          <p:nvPr/>
        </p:nvPicPr>
        <p:blipFill>
          <a:blip r:embed="rId2"/>
          <a:stretch/>
        </p:blipFill>
        <p:spPr>
          <a:xfrm>
            <a:off x="533520" y="1447920"/>
            <a:ext cx="3524040" cy="2352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http://www.psychologytoday.com/files/u203/Sperm.jpg"/>
          <p:cNvPicPr/>
          <p:nvPr/>
        </p:nvPicPr>
        <p:blipFill>
          <a:blip r:embed="rId3"/>
          <a:stretch/>
        </p:blipFill>
        <p:spPr>
          <a:xfrm>
            <a:off x="2057400" y="3809880"/>
            <a:ext cx="335268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tructure and function are related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3" name="Picture 2" descr="http://hyperphysics.phy-astr.gsu.edu/hbase/biology/biopic/alvlung.jpg"/>
          <p:cNvPicPr/>
          <p:nvPr/>
        </p:nvPicPr>
        <p:blipFill>
          <a:blip r:embed="rId1"/>
          <a:stretch/>
        </p:blipFill>
        <p:spPr>
          <a:xfrm>
            <a:off x="685800" y="1447920"/>
            <a:ext cx="2819520" cy="4903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http://apainlessjourney.files.wordpress.com/2010/09/17-intestinal-villi-jejunum-a.jpg"/>
          <p:cNvPicPr/>
          <p:nvPr/>
        </p:nvPicPr>
        <p:blipFill>
          <a:blip r:embed="rId2"/>
          <a:stretch/>
        </p:blipFill>
        <p:spPr>
          <a:xfrm>
            <a:off x="3962520" y="2133720"/>
            <a:ext cx="46162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lasma Membrane 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uid Mosaic Mod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5" descr="http://images.wikia.com/aecbio11/images/7/7d/Phospholopid_bilayer.gif"/>
          <p:cNvPicPr/>
          <p:nvPr/>
        </p:nvPicPr>
        <p:blipFill>
          <a:blip r:embed="rId1"/>
          <a:stretch/>
        </p:blipFill>
        <p:spPr>
          <a:xfrm>
            <a:off x="6477120" y="0"/>
            <a:ext cx="2455920" cy="1878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http://eweb.furman.edu/~wworthen/bio111/2membrane.jpg"/>
          <p:cNvPicPr/>
          <p:nvPr/>
        </p:nvPicPr>
        <p:blipFill>
          <a:blip r:embed="rId2"/>
          <a:stretch/>
        </p:blipFill>
        <p:spPr>
          <a:xfrm>
            <a:off x="457200" y="1905120"/>
            <a:ext cx="7943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 NO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5" descr="http://upload.wikimedia.org/wikipedia/commons/thumb/1/12/Diffusion.svg/220px-Diffusion.svg.png"/>
          <p:cNvPicPr/>
          <p:nvPr/>
        </p:nvPicPr>
        <p:blipFill>
          <a:blip r:embed="rId1"/>
          <a:stretch/>
        </p:blipFill>
        <p:spPr>
          <a:xfrm>
            <a:off x="152280" y="1295280"/>
            <a:ext cx="2513160" cy="1530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http://www.biologyguide.net/img/notes/32.png"/>
          <p:cNvPicPr/>
          <p:nvPr/>
        </p:nvPicPr>
        <p:blipFill>
          <a:blip r:embed="rId2"/>
          <a:stretch/>
        </p:blipFill>
        <p:spPr>
          <a:xfrm>
            <a:off x="2590920" y="2584440"/>
            <a:ext cx="67053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 NO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sm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5" name="Picture 5" descr="http://deltabiology.com/wp-content/uploads/2012/01/osmosis3.gif"/>
          <p:cNvPicPr/>
          <p:nvPr/>
        </p:nvPicPr>
        <p:blipFill>
          <a:blip r:embed="rId1"/>
          <a:stretch/>
        </p:blipFill>
        <p:spPr>
          <a:xfrm>
            <a:off x="99072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 NO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sm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Picture 7" descr="http://2.bp.blogspot.com/_hhUdKwzDmA4/S3LLpGCVZwI/AAAAAAAAAbk/TFdIqp9C_k4/s400/hyper,+hypo,+iso.jpg"/>
          <p:cNvPicPr/>
          <p:nvPr/>
        </p:nvPicPr>
        <p:blipFill>
          <a:blip r:embed="rId1"/>
          <a:stretch/>
        </p:blipFill>
        <p:spPr>
          <a:xfrm>
            <a:off x="152280" y="1600200"/>
            <a:ext cx="8534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ample Question 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at is the major difference between prokaryotes and eukaryot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Prokaryotes used photosynthesis and eukaryotes do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 use photosynth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Prokaryotes have a nucleus and eukaryotes do not have a nucle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. Prokaryotes do not have DNA and eukaryotes do have D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. Prokaryotes do not have a nucleus and eukaryotes do have a nucleu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. Prokaryotes used photosynthesis while eukaryotes use respi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 NO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ilitated Diff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1" name="Picture 5" descr="http://4.bp.blogspot.com/_detzCStVbk8/TJbA6H6_39I/AAAAAAAAADw/5V3zzv42JJs/s1600/facilitated.jpg"/>
          <p:cNvPicPr/>
          <p:nvPr/>
        </p:nvPicPr>
        <p:blipFill>
          <a:blip r:embed="rId1"/>
          <a:stretch/>
        </p:blipFill>
        <p:spPr>
          <a:xfrm>
            <a:off x="533520" y="1143000"/>
            <a:ext cx="82296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ctive Transport – requires energ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ll Membrane Pum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5" descr="http://sbi3u0.yolasite.com/resources/0645.jpg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ctive Transport – requires energ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docyt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2" descr="http://kenpitts.net/bio/images/endocytosis.gif"/>
          <p:cNvPicPr/>
          <p:nvPr/>
        </p:nvPicPr>
        <p:blipFill>
          <a:blip r:embed="rId1"/>
          <a:stretch/>
        </p:blipFill>
        <p:spPr>
          <a:xfrm>
            <a:off x="0" y="2514600"/>
            <a:ext cx="10210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ctive Transport – requires energ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ocyt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2" descr="http://kenpitts.net/bio/images/exocytosis.gif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ransport in C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s vesic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volves the endoplasmic reticulum and golgi apparat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Picture 5" descr="http://carolguze.com/images/cellorganelles/er-golgi1.jpg"/>
          <p:cNvPicPr/>
          <p:nvPr/>
        </p:nvPicPr>
        <p:blipFill>
          <a:blip r:embed="rId1"/>
          <a:stretch/>
        </p:blipFill>
        <p:spPr>
          <a:xfrm>
            <a:off x="838080" y="1905120"/>
            <a:ext cx="704556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ample Question #3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286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ow is osmosis different from diffus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. osmosis refers to the movement of ions across the membrane while diffusion is a special type of osmo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. osmosis is a special type of diffusion involving only wa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. osmosis requires energy and diffusion does no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. osmosis requires proteins and diffusion does no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l living things have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http://woostermiddle.stratfordk12.org/images/customer-images/living_vs_nonliving.JPG"/>
          <p:cNvPicPr/>
          <p:nvPr/>
        </p:nvPicPr>
        <p:blipFill>
          <a:blip r:embed="rId1"/>
          <a:stretch/>
        </p:blipFill>
        <p:spPr>
          <a:xfrm>
            <a:off x="366840" y="1981080"/>
            <a:ext cx="8253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ve C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cell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lticell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http://4.bp.blogspot.com/_rYYcdMsVqUE/TUAdFdAvVDI/AAAAAAAAABc/VgJta_GKIIc/s1600/Amoeba.jpg"/>
          <p:cNvPicPr/>
          <p:nvPr/>
        </p:nvPicPr>
        <p:blipFill>
          <a:blip r:embed="rId1"/>
          <a:stretch/>
        </p:blipFill>
        <p:spPr>
          <a:xfrm>
            <a:off x="609480" y="2819520"/>
            <a:ext cx="3505320" cy="2601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www.arthursclipart.org/elephants/elephants/elephant%20picture.gif"/>
          <p:cNvPicPr/>
          <p:nvPr/>
        </p:nvPicPr>
        <p:blipFill>
          <a:blip r:embed="rId2"/>
          <a:stretch/>
        </p:blipFill>
        <p:spPr>
          <a:xfrm>
            <a:off x="4648320" y="2514600"/>
            <a:ext cx="39621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pond to stimul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5" descr="http://mrbenton.com/images/stimresp.jpg"/>
          <p:cNvPicPr/>
          <p:nvPr/>
        </p:nvPicPr>
        <p:blipFill>
          <a:blip r:embed="rId1"/>
          <a:stretch/>
        </p:blipFill>
        <p:spPr>
          <a:xfrm>
            <a:off x="685800" y="1905120"/>
            <a:ext cx="2590920" cy="328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http://biology.kenyon.edu/edwards/project/kathleen/images/pot2.gif"/>
          <p:cNvPicPr/>
          <p:nvPr/>
        </p:nvPicPr>
        <p:blipFill>
          <a:blip r:embed="rId2"/>
          <a:stretch/>
        </p:blipFill>
        <p:spPr>
          <a:xfrm>
            <a:off x="4724280" y="3048120"/>
            <a:ext cx="3594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intain homeosta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http://www.macronutrients.net/wp-content/uploads/2011/12/Homeostasis.gif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abol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Autotrophs 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Heterotroph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8" descr="http://companionplants.com/images/small-plant2.jpg"/>
          <p:cNvPicPr/>
          <p:nvPr/>
        </p:nvPicPr>
        <p:blipFill>
          <a:blip r:embed="rId1"/>
          <a:stretch/>
        </p:blipFill>
        <p:spPr>
          <a:xfrm>
            <a:off x="609480" y="2438280"/>
            <a:ext cx="3429000" cy="4191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http://animallamina.files.wordpress.com/2010/11/eating-hamster.jpg"/>
          <p:cNvPicPr/>
          <p:nvPr/>
        </p:nvPicPr>
        <p:blipFill>
          <a:blip r:embed="rId2"/>
          <a:stretch/>
        </p:blipFill>
        <p:spPr>
          <a:xfrm>
            <a:off x="4800600" y="2590920"/>
            <a:ext cx="36702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4:25:26Z</dcterms:created>
  <dc:creator>Administrator</dc:creator>
  <dc:description/>
  <dc:language>en-US</dc:language>
  <cp:lastModifiedBy>Dawn  Marshall</cp:lastModifiedBy>
  <dcterms:modified xsi:type="dcterms:W3CDTF">2013-03-20T14:45:14Z</dcterms:modified>
  <cp:revision>16</cp:revision>
  <dc:subject/>
  <dc:title>Bio Boot Camp</dc:title>
</cp:coreProperties>
</file>